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6D05-8BFC-4B4C-8ADF-0C79475B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9499-20A3-4C12-BE8E-C8877BC7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6842-1496-42B7-B436-AF008D6D3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C34C-494B-4CEC-9B20-3388B806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C79E-A867-4776-AC12-D2A3AAD8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B7F9-A86A-4762-9278-EBE40B1C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A85F-B2CB-4D15-9306-4699D5A9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9863-942E-40A6-B39B-D4497883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F9C9-7BFC-4E1F-876A-1C5E5DDF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959A-CA97-415D-AA36-3B9F53DA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3B79-945F-4005-B29C-CE45994C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753B-24DF-4089-BA0D-09B26AE1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974D-3A8C-43A4-8CED-EF81DC27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3C18-6999-4E32-A199-9E06F0D5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50AE-76BD-4C38-AFE7-CE1EB039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F320-FD53-4680-9B8E-390D67E1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A89A-8B7C-4D9D-A586-6CD3F5BED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6D88-2267-4C43-85F0-FA4B18C3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410F-B42D-4725-BBB0-BB73A7BB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68D3-D7A8-4AB3-8C0A-345A48DC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B917-2E4C-4DC8-B964-387EA093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7581-6C4E-462C-A8C9-B3561768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EDAD-DAC0-49FF-BFA1-134F855A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4AD8-D65A-451A-9DED-8BDE6423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0E1D-EA09-4EBA-9FAE-ABF465E06DA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2315-052F-4398-84C1-9A58A37C028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0 ГОД И ПЛАНОВЫЙ ПЕРИОД 2021-2022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30:08Z</dcterms:modified>
  <cp:revision>44</cp:revision>
  <dc:subject/>
  <dc:title>Структура собственных доходов на 2016 год бюджета Дальнереченского городского округа</dc:title>
</cp:coreProperties>
</file>